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6471000"/>
            <a:ext cx="360" cy="143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Get a Skype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urchase Skype to Phone ~$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se Audacity to recond the phone call coming out of your speakers with your microphone of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$15 first month/$10 each addit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ry easy to use, blog for shownotes &amp; feed are aut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$15 first month/$10 each addit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ry easy to use, blog for shownotes &amp; feed are aut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0" y="-6470640"/>
            <a:ext cx="1440" cy="14333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4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$19.95 / 20 posts/month – 2048 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You do not need an iPod to Podcast! You can use any kind of MP3 player to listen (computer or portable devic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record you can use a microphone, telephone or portable recr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You can locate podcasts through feed readers like iTunes and Bloglines, online directories like Podcast Alley and Odeo, and through hosting sites like Gabcast and Podoma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Go to Blog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et up a FREE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ck A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ste in the URL of the page where the podcast you want to subscribe to is lo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You may want to set up a separate folder to colledt podc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in the “Feed” tab, click “Edi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elect “New Folder”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ame your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ck “Finished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ag and drop your podcast subscriptions into the fol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5AAF-67F2-44B1-8F30-23ADE471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D4B-6E95-4A35-9A86-444ED74C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C79-F905-4D70-B636-EDA937DA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386-9035-44F0-A1B6-DC43F30C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257-85A9-4C7F-9BF1-EABC72CC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9F6C-53FF-4E1F-A12E-44205ED3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7B1-988D-44CF-A80D-59558407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B22-1D6B-4C50-AA6F-B8D0F970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418-23A8-4D7E-9B76-677CEB1A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1F5-8193-40C3-A320-6DC7E27B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823-1A78-43C8-A803-0B850A96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3DB-DD6D-4FF5-95B9-9DDBC5BA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CD50C-D6CD-4758-9FFB-86F35E8F3D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hyperlink" Target="http://www.skype.com/" TargetMode="External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hyperlink" Target="http://www.ourmedia.org/" TargetMode="External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odomatic.com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libsyn.com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ivejournal.com/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hyperlink" Target="http://www.apple.com/itunes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oglines.com/" TargetMode="External"/><Relationship Id="rId2" Type="http://schemas.openxmlformats.org/officeDocument/2006/relationships/hyperlink" Target="http://www.bloglines.com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deo.com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udacity.sourceforge.net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dca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sented for EDC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ebruary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06440" y="1386000"/>
          <a:ext cx="83329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386000"/>
                    <a:ext cx="83329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69960" y="5832360"/>
            <a:ext cx="30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skype.co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ording with Sk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14400" y="1143000"/>
          <a:ext cx="7469280" cy="50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469280" cy="50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91120" y="62136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ourmedia.or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7240" y="228600"/>
            <a:ext cx="7770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ee Online Storage: Our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62200" y="6172200"/>
            <a:ext cx="36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podomatic.com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ord, Store &amp; Post: Podomati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5951520" cy="44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6800" y="617220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libsyn.com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ore &amp; Post: LibSy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4008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st by Phone: Livejour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5486040"/>
            <a:ext cx="777096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livejournal.com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1360" y="1143000"/>
            <a:ext cx="593244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40120" y="2057400"/>
            <a:ext cx="3689280" cy="416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57400" y="1371600"/>
            <a:ext cx="5486400" cy="525780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057400"/>
            <a:ext cx="3733920" cy="388620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89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 iPod Requir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048200" cy="338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333440" cy="2571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91120" y="289548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057400" y="114300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419720" y="53352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6629400" y="3886200"/>
            <a:ext cx="2219400" cy="2219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ording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ding Podcasts: iTu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90720" y="1828800"/>
          <a:ext cx="708480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08480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42320" y="6060960"/>
            <a:ext cx="38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apple.com/itun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6240" y="6248520"/>
            <a:ext cx="352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bloglines.com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ding Podcasts: Blog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5655960"/>
            <a:ext cx="77709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bloglines.com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458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6480" y="6248520"/>
            <a:ext cx="291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odeo.co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3152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89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ding Podcasts: OD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143000"/>
          <a:ext cx="830592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30592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04920" y="6324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\All Programs\Accessories\Entertainment\Sound Rec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EE Sound Recorder (Windows)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87520" y="5985000"/>
            <a:ext cx="40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udacity.sourceforge.net/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143000"/>
          <a:ext cx="6770520" cy="421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143000"/>
                    <a:ext cx="677052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318960"/>
            <a:ext cx="800100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ord with Audacity (PC or Mac)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09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ord with Garage Band (Mac)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2769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dcasting</dc:title>
</cp:coreProperties>
</file>